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32F8-E62A-43D4-9E36-9F2C47331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80F3-E541-49F1-809B-275FADBE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links to CWS website from CB home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0BC5E40-02CE-4BC8-9D5A-91163C147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11 and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jobs and job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 4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FEDB-01A7-4D82-BC48-5CA8ECC77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DEA-8AD1-4490-BC4F-8B4098CB6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indicate summer school course choices on the parental signage sheets with the options cho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not a summer school registration. This will occur in M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0E6-CD70-45BC-BF99-46374FDD3E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C2B-E115-411A-82D3-1EA2BA298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1DA-BE8D-4481-B046-1F897A6C1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course code changes from grades 9 and 10  and into grade 11 and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532-DD21-45A0-85BA-D52CF021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AE7-E5A3-4168-9E83-1B63830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3D0-7050-4A2D-9D52-E00B7F81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49C-DBB5-4EDB-8627-E8C8325D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9C87-D736-4DB3-9395-B1C5172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CEE-C99B-4C14-AB1D-CC87EDB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356-E1C0-47C0-96C7-0647D57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6FCA-0A37-43DF-AB72-99EBC5D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8B5-50B9-4156-B120-CEA45C3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312-E9F7-44B2-9782-F996487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FDB-72B4-41A8-A490-9228957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963-085C-45D1-AF53-DDA9D98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402B-FEC7-4080-AFA5-513A9E4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5F02-392E-4FFF-A4BF-E6C01D5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03D6-F882-478F-AA04-2044A5D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4541-F868-4A51-A96D-0BCA11CD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1F65-F1CA-44E6-B7B3-2E43698D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BE-3700-41D7-A10D-11160392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C54-2C24-4237-91A6-DA37E6C4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1DF-72C5-49BA-856C-EF2A33F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8F6-BF0E-47AD-94F2-5E74209B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3AC-0030-4D6A-B7D0-A5D1C04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6EF-899F-45DD-8A02-6A18192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8CA-94F0-4C49-889D-A2560283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F40-E7BF-41B0-88EF-2EB1A3A28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E64D-6E08-4B9D-8CD1-6ECD8CC709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ntariocolleges.ca/" TargetMode="External"/><Relationship Id="rId2" Type="http://schemas.openxmlformats.org/officeDocument/2006/relationships/hyperlink" Target="http://www.electronicinfo.ca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lonelby.com/teachers/canadianandworldstud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2.careercruising.com/default/cplogin/OCD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hyperlink" Target="mailto:jill.badgery@ocdsb.ca" TargetMode="External"/><Relationship Id="rId3" Type="http://schemas.openxmlformats.org/officeDocument/2006/relationships/hyperlink" Target="mailto:sarah.storey@ocdsb.ca" TargetMode="External"/><Relationship Id="rId4" Type="http://schemas.openxmlformats.org/officeDocument/2006/relationships/hyperlink" Target="mailto:Rachel.nakashoji@ocdsb.c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olonelby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gradient.jpg"/>
          <p:cNvPicPr/>
          <p:nvPr/>
        </p:nvPicPr>
        <p:blipFill>
          <a:blip r:embed="rId1"/>
          <a:stretch/>
        </p:blipFill>
        <p:spPr>
          <a:xfrm>
            <a:off x="228600" y="0"/>
            <a:ext cx="9215280" cy="698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est2.gif"/>
          <p:cNvPicPr/>
          <p:nvPr/>
        </p:nvPicPr>
        <p:blipFill>
          <a:blip r:embed="rId2"/>
          <a:stretch/>
        </p:blipFill>
        <p:spPr>
          <a:xfrm>
            <a:off x="3846600" y="2031840"/>
            <a:ext cx="2028600" cy="21272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8" descr=""/>
          <p:cNvPicPr/>
          <p:nvPr/>
        </p:nvPicPr>
        <p:blipFill>
          <a:blip r:embed="rId3"/>
          <a:stretch/>
        </p:blipFill>
        <p:spPr>
          <a:xfrm>
            <a:off x="658800" y="42840"/>
            <a:ext cx="802152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BLogo.gif"/>
          <p:cNvPicPr/>
          <p:nvPr/>
        </p:nvPicPr>
        <p:blipFill>
          <a:blip r:embed="rId4"/>
          <a:stretch/>
        </p:blipFill>
        <p:spPr>
          <a:xfrm>
            <a:off x="7678800" y="5659560"/>
            <a:ext cx="1289160" cy="126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45720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724280"/>
            <a:ext cx="52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urse Selection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17-201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pulsory Credits Required for OSS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English, French, International language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ocial Science (ex. HSP, HRT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WS (ex. geo, history) OR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Guidance or Coop cred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Health and Physical Education,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Arts OR Business Studies OR French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dditional credi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Science (Grade 11 or 12) 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Technological Education OR French 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Computer Studies (ICS) OR Co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 (ex. SBI3C, SCH4C, MAP4C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Earn an undergraduate/ Bachelor’s Degree (BSc, BCom, BA, et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SSD, ENG4U and specific program requir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trac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your post-secondar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 and consider teachers’ advice (re: leve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e will try to place you in all of your requested courses, but if we cannot, we will use your alternate choi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3886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Colle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BF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P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80880" y="1600200"/>
          <a:ext cx="8458200" cy="157320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Essent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FM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3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L4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gradient.jpg"/>
          <p:cNvPicPr/>
          <p:nvPr/>
        </p:nvPicPr>
        <p:blipFill>
          <a:blip r:embed="rId1"/>
          <a:stretch/>
        </p:blipFill>
        <p:spPr>
          <a:xfrm>
            <a:off x="-9360" y="-6480"/>
            <a:ext cx="9153360" cy="116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radient.jpg"/>
          <p:cNvPicPr/>
          <p:nvPr/>
        </p:nvPicPr>
        <p:blipFill>
          <a:blip r:embed="rId2"/>
          <a:stretch/>
        </p:blipFill>
        <p:spPr>
          <a:xfrm>
            <a:off x="0" y="6359400"/>
            <a:ext cx="9153360" cy="51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aw.gif"/>
          <p:cNvPicPr/>
          <p:nvPr/>
        </p:nvPicPr>
        <p:blipFill>
          <a:blip r:embed="rId3"/>
          <a:stretch/>
        </p:blipFill>
        <p:spPr>
          <a:xfrm rot="20052600">
            <a:off x="309600" y="6321600"/>
            <a:ext cx="517320" cy="552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rest2.gif"/>
          <p:cNvPicPr/>
          <p:nvPr/>
        </p:nvPicPr>
        <p:blipFill>
          <a:blip r:embed="rId4"/>
          <a:stretch/>
        </p:blipFill>
        <p:spPr>
          <a:xfrm>
            <a:off x="260280" y="49320"/>
            <a:ext cx="1008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9" descr=""/>
          <p:cNvPicPr/>
          <p:nvPr/>
        </p:nvPicPr>
        <p:blipFill>
          <a:blip r:embed="rId5"/>
          <a:stretch/>
        </p:blipFill>
        <p:spPr>
          <a:xfrm>
            <a:off x="3029040" y="-219240"/>
            <a:ext cx="2950920" cy="11638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1"/>
          <p:cNvSpPr/>
          <p:nvPr/>
        </p:nvSpPr>
        <p:spPr>
          <a:xfrm>
            <a:off x="3320280" y="6459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WHAT WE HAVE BEGUN WE SHALL FINISH</a:t>
            </a:r>
            <a:r>
              <a:rPr b="0" lang="en-US" sz="12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3547080" y="9111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“</a:t>
            </a:r>
            <a:r>
              <a:rPr b="0" lang="en-US" sz="1000" spc="-1" strike="noStrike">
                <a:solidFill>
                  <a:srgbClr val="0066cc"/>
                </a:solidFill>
                <a:latin typeface="Baoli SC Regular"/>
                <a:ea typeface="Baoli SC Regular"/>
              </a:rPr>
              <a:t>QUAD INCEPIMUS CONFIEMUS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5" descr="paw.gif"/>
          <p:cNvPicPr/>
          <p:nvPr/>
        </p:nvPicPr>
        <p:blipFill>
          <a:blip r:embed="rId6"/>
          <a:stretch/>
        </p:blipFill>
        <p:spPr>
          <a:xfrm rot="20052600">
            <a:off x="8277120" y="6321240"/>
            <a:ext cx="517680" cy="55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IBLogo.gif"/>
          <p:cNvPicPr/>
          <p:nvPr/>
        </p:nvPicPr>
        <p:blipFill>
          <a:blip r:embed="rId7"/>
          <a:stretch/>
        </p:blipFill>
        <p:spPr>
          <a:xfrm>
            <a:off x="7977240" y="104760"/>
            <a:ext cx="99072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8"/>
          <a:stretch/>
        </p:blipFill>
        <p:spPr>
          <a:xfrm>
            <a:off x="1533600" y="1268280"/>
            <a:ext cx="6037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3886200"/>
          <a:ext cx="8534160" cy="254304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482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– University (Specific Program Require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MH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pre/co-requisite to MCV4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" y="1600200"/>
          <a:ext cx="8686440" cy="1904760"/>
        </p:xfrm>
        <a:graphic>
          <a:graphicData uri="http://schemas.openxmlformats.org/drawingml/2006/table">
            <a:tbl>
              <a:tblPr/>
              <a:tblGrid>
                <a:gridCol w="1736640"/>
                <a:gridCol w="1737360"/>
                <a:gridCol w="1738440"/>
                <a:gridCol w="1737360"/>
                <a:gridCol w="1736640"/>
              </a:tblGrid>
              <a:tr h="515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-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F3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DM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990720" y="434880"/>
            <a:ext cx="70452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ience Op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905120"/>
          <a:ext cx="8458200" cy="16938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C (every other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*2017-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28600" y="4267080"/>
          <a:ext cx="8534520" cy="24606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8200"/>
                <a:gridCol w="1706400"/>
                <a:gridCol w="1706760"/>
              </a:tblGrid>
              <a:tr h="48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Science Pathway Op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S4U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*2017-201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nadian World Studies and Humani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066680"/>
          <a:ext cx="8458200" cy="15987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D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4952880"/>
          <a:ext cx="8534520" cy="159192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cs and 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U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W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2819520"/>
          <a:ext cx="8534520" cy="18921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8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 &amp; Human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P/D/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W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P3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T3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BV3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B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SE4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859040"/>
                <a:gridCol w="152388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P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814400"/>
                <a:gridCol w="16002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ama and Musical 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A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80880" y="3200400"/>
          <a:ext cx="8534520" cy="18111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387440"/>
                <a:gridCol w="2133720"/>
                <a:gridCol w="1600200"/>
              </a:tblGrid>
              <a:tr h="411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1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2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3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MR4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37160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3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log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J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P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V4M (C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0880" y="4114800"/>
          <a:ext cx="8458200" cy="2451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07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disciplinary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C4U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w Media:  A Critical Approach to 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P/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0880" y="5248440"/>
          <a:ext cx="8534520" cy="16095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80880" y="32004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4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ersion Fre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Physical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04920" y="1523880"/>
          <a:ext cx="8458200" cy="3249720"/>
        </p:xfrm>
        <a:graphic>
          <a:graphicData uri="http://schemas.openxmlformats.org/drawingml/2006/table">
            <a:tbl>
              <a:tblPr/>
              <a:tblGrid>
                <a:gridCol w="1523880"/>
                <a:gridCol w="1981080"/>
                <a:gridCol w="1752840"/>
                <a:gridCol w="1509480"/>
                <a:gridCol w="1690920"/>
              </a:tblGrid>
              <a:tr h="411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1OP/Q/1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2OP/Q/1/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2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D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4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F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PL3OP/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 3U recommend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uidance and Career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1523880"/>
          <a:ext cx="8458200" cy="213516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000"/>
                <a:gridCol w="1690920"/>
              </a:tblGrid>
              <a:tr h="414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eer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S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E2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C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WL3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N4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usiness and Computer Stud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37160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I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MI3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BB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H4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80880" y="3581280"/>
          <a:ext cx="8458200" cy="162252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3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uter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3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S4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 courses, current cour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 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-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29000" cy="2400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486240" cy="240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419640" cy="2438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4"/>
          <a:stretch/>
        </p:blipFill>
        <p:spPr>
          <a:xfrm>
            <a:off x="4800600" y="3924360"/>
            <a:ext cx="34956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SM – Arts and Cul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6765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OSS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693432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Career Cru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(www.careercruising.com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Verdana"/>
              </a:rPr>
              <a:t>Follow link on www.colonelby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-76320" y="0"/>
          <a:ext cx="944892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44892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14479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nting after submitting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essential to finaliz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urse selec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School intention, Media Consent, Use of Technology agreement will also print and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 be signed by student and par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nd submitted along with course selection p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If an override is required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in order to submit, students must see Guidance Counsellor. This will be necessary for program changes and when online learning is selec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Please submit by 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February 24</a:t>
            </a:r>
            <a:r>
              <a:rPr b="1" lang="en-CA" sz="28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1" lang="en-CA" sz="2800" spc="-1" strike="noStrike" u="sng">
                <a:solidFill>
                  <a:srgbClr val="ffffff"/>
                </a:solidFill>
                <a:uFillTx/>
                <a:latin typeface="Verdana"/>
              </a:rPr>
              <a:t>, 2017</a:t>
            </a:r>
            <a:r>
              <a:rPr b="1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o Subject teachers (in class where course presentation occurred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il/May registration completed online through Career Cruising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ach Ahead and Make u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uly (3.5 weeks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stly compulsory courses with some electiv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rse 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s may occur. Choose altern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ority is given to compulsory credits/ graduation requirem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course choices careful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s are not always possi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contact your guidance counsellor with questions. Appointments can be booked online a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--Guid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jill.badgery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(A-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sarah.storey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(G-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rachel.nakashoji@ocdsb.c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P-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Rectangle 43"/>
          <p:cNvGraphicFramePr/>
          <p:nvPr/>
        </p:nvGraphicFramePr>
        <p:xfrm>
          <a:off x="928800" y="1963800"/>
          <a:ext cx="7284960" cy="38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Rectangle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63800"/>
                    <a:ext cx="728496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8088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CA" sz="7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Slides shows and resources available at </a:t>
            </a:r>
            <a:r>
              <a:rPr b="0" lang="en-CA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olonelby.com</a:t>
            </a: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(Admin- Guidance- Course selec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Levels - Grade 10 </a:t>
            </a:r>
            <a:r>
              <a:rPr b="0" lang="en-CA" sz="4400" spc="-1" strike="noStrike">
                <a:solidFill>
                  <a:srgbClr val="ccecff"/>
                </a:solidFill>
                <a:latin typeface="Wingdings"/>
                <a:ea typeface="Wingdings"/>
              </a:rPr>
              <a:t></a:t>
            </a:r>
            <a:r>
              <a:rPr b="0" lang="en-CA" sz="4400" spc="-1" strike="noStrike">
                <a:solidFill>
                  <a:srgbClr val="ccec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371600"/>
          <a:ext cx="8076960" cy="4191120"/>
        </p:xfrm>
        <a:graphic>
          <a:graphicData uri="http://schemas.openxmlformats.org/drawingml/2006/table">
            <a:tbl>
              <a:tblPr/>
              <a:tblGrid>
                <a:gridCol w="4038840"/>
                <a:gridCol w="403812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 &amp;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 &amp;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ademic (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(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ed    (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versity /College (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lege (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n       (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kplace (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896040" y="5791320"/>
            <a:ext cx="7413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IB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will add a E or J at the end of the code (ENG3U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.  ENG3U  LWSDU  SCH4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C32954</cp:lastModifiedBy>
  <dcterms:modified xsi:type="dcterms:W3CDTF">2017-02-09T19:48:31Z</dcterms:modified>
  <cp:revision>92</cp:revision>
  <dc:subject/>
  <dc:title>Option sheets 2014-2015</dc:title>
</cp:coreProperties>
</file>